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8B2-0EB6-4AEC-85CE-9DCD2828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069-F065-4329-A0B2-3922E00C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A38-D97D-4959-8489-36002666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BB4-F9E4-44D4-A5D5-FFF0FDDA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DA6-D096-4761-8FD1-156F6CF4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161-2CF4-48D5-A5C1-E1029D80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EFE-739D-48CC-B669-D1B7FA50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84B-796B-471D-B8B1-5BA13B58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2FE-0DD3-4EFA-B4B6-4DEB86DE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785-438E-4DD0-8701-3265A9DF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EC7-D666-4D67-949A-49DA8ECB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32F-2958-445D-BA14-4C2EFAA8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7728-7233-4E73-BBAD-9464ECDF974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1520" y="4064040"/>
          <a:ext cx="9190080" cy="2409840"/>
        </p:xfrm>
        <a:graphic>
          <a:graphicData uri="http://schemas.openxmlformats.org/drawingml/2006/table">
            <a:tbl>
              <a:tblPr/>
              <a:tblGrid>
                <a:gridCol w="606240"/>
                <a:gridCol w="613080"/>
                <a:gridCol w="612720"/>
                <a:gridCol w="614160"/>
                <a:gridCol w="614520"/>
                <a:gridCol w="614160"/>
                <a:gridCol w="614520"/>
                <a:gridCol w="614520"/>
                <a:gridCol w="614160"/>
                <a:gridCol w="630360"/>
                <a:gridCol w="582480"/>
                <a:gridCol w="614520"/>
                <a:gridCol w="614160"/>
                <a:gridCol w="615960"/>
                <a:gridCol w="614520"/>
              </a:tblGrid>
              <a:tr h="334800"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040"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a0f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32124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2223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2225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02325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2427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2427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d2429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2529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0252a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262c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4262d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d272d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7272f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282f"/>
                    </a:solidFill>
                  </a:tcPr>
                </a:tc>
              </a:tr>
            </a:tbl>
          </a:graphicData>
        </a:graphic>
      </p:graphicFrame>
      <p:sp>
        <p:nvSpPr>
          <p:cNvPr id="42" name="Text Box 534"/>
          <p:cNvSpPr/>
          <p:nvPr/>
        </p:nvSpPr>
        <p:spPr>
          <a:xfrm>
            <a:off x="604800" y="444600"/>
            <a:ext cx="9026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UR CHART FOR DETECTION OF THE AMOUNT OF METHAEMOGLOBIN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68280" y="1206360"/>
          <a:ext cx="9163080" cy="2476800"/>
        </p:xfrm>
        <a:graphic>
          <a:graphicData uri="http://schemas.openxmlformats.org/drawingml/2006/table">
            <a:tbl>
              <a:tblPr/>
              <a:tblGrid>
                <a:gridCol w="990720"/>
                <a:gridCol w="1046160"/>
                <a:gridCol w="1017360"/>
                <a:gridCol w="1017720"/>
                <a:gridCol w="1019160"/>
                <a:gridCol w="1017720"/>
                <a:gridCol w="1017360"/>
                <a:gridCol w="1019160"/>
                <a:gridCol w="1017720"/>
              </a:tblGrid>
              <a:tr h="358920"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a0f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32124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2225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2427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d2429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0252b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4262d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7272f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7283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21:32Z</dcterms:created>
  <dc:creator>shihana</dc:creator>
  <dc:description/>
  <dc:language>en-US</dc:language>
  <cp:lastModifiedBy>Fathima Shihana</cp:lastModifiedBy>
  <dcterms:modified xsi:type="dcterms:W3CDTF">2010-03-16T11:16:45Z</dcterms:modified>
  <cp:revision>7</cp:revision>
  <dc:subject/>
  <dc:title>Slide 1</dc:title>
</cp:coreProperties>
</file>