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B86-A4C2-4540-B17E-C749D935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B03-3120-46D3-A0F9-E2418A04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12A-CD07-4819-A501-6FAD0AF6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6CA-1C3D-4BBA-A107-C2D58C4C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05E-C2E1-4FD0-AC11-8BB5C99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2E8-F0A0-42F3-A3A6-07DF2DF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E68-9BBB-485E-AC79-F94CF9FD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AF6-E406-46A8-B78C-AB11CA53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0B5-7D82-4E0C-A50A-632A4254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CD6-90B3-40CD-AF6C-187C51D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05C-9660-45D2-86D9-E18D539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BC1-0809-4A37-BE79-19AFFD2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CD23-A48E-48E0-AC87-F5D061E85E8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1520" y="4064040"/>
          <a:ext cx="9190080" cy="2409840"/>
        </p:xfrm>
        <a:graphic>
          <a:graphicData uri="http://schemas.openxmlformats.org/drawingml/2006/table">
            <a:tbl>
              <a:tblPr/>
              <a:tblGrid>
                <a:gridCol w="606240"/>
                <a:gridCol w="613080"/>
                <a:gridCol w="612720"/>
                <a:gridCol w="614160"/>
                <a:gridCol w="614520"/>
                <a:gridCol w="614160"/>
                <a:gridCol w="614520"/>
                <a:gridCol w="614520"/>
                <a:gridCol w="614160"/>
                <a:gridCol w="630360"/>
                <a:gridCol w="582480"/>
                <a:gridCol w="614520"/>
                <a:gridCol w="614160"/>
                <a:gridCol w="615960"/>
                <a:gridCol w="614520"/>
              </a:tblGrid>
              <a:tr h="334800"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040"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a0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2124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c2223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22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023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d24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25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0252a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262c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426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d27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7272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282f"/>
                    </a:solidFill>
                  </a:tcPr>
                </a:tc>
              </a:tr>
            </a:tbl>
          </a:graphicData>
        </a:graphic>
      </p:graphicFrame>
      <p:sp>
        <p:nvSpPr>
          <p:cNvPr id="42" name="Text Box 534"/>
          <p:cNvSpPr/>
          <p:nvPr/>
        </p:nvSpPr>
        <p:spPr>
          <a:xfrm>
            <a:off x="604800" y="444600"/>
            <a:ext cx="9026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UR CHART FOR DETECTION OF THE AMOUNT OF METHAEMOGLOBIN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68280" y="1206360"/>
          <a:ext cx="9163080" cy="2476800"/>
        </p:xfrm>
        <a:graphic>
          <a:graphicData uri="http://schemas.openxmlformats.org/drawingml/2006/table">
            <a:tbl>
              <a:tblPr/>
              <a:tblGrid>
                <a:gridCol w="990720"/>
                <a:gridCol w="1046160"/>
                <a:gridCol w="1017360"/>
                <a:gridCol w="1017720"/>
                <a:gridCol w="1019160"/>
                <a:gridCol w="1017720"/>
                <a:gridCol w="1017360"/>
                <a:gridCol w="1019160"/>
                <a:gridCol w="1017720"/>
              </a:tblGrid>
              <a:tr h="358920"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a0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2124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2225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92427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d2429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0252b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4262d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7272f"/>
                    </a:solidFill>
                  </a:tcPr>
                </a:tc>
                <a:tc>
                  <a:txBody>
                    <a:bodyPr lIns="65880" rIns="65880" tIns="38160" bIns="3816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254240"/>
                          <a:tab algn="l" pos="2508120"/>
                          <a:tab algn="l" pos="3762360"/>
                          <a:tab algn="l" pos="5016600"/>
                          <a:tab algn="l" pos="6270480"/>
                          <a:tab algn="l" pos="7524720"/>
                          <a:tab algn="l" pos="8778960"/>
                          <a:tab algn="l" pos="1003284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7283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21:32Z</dcterms:created>
  <dc:creator>shihana</dc:creator>
  <dc:description/>
  <dc:language>en-US</dc:language>
  <cp:lastModifiedBy>Fathima Shihana</cp:lastModifiedBy>
  <dcterms:modified xsi:type="dcterms:W3CDTF">2010-03-16T11:16:45Z</dcterms:modified>
  <cp:revision>7</cp:revision>
  <dc:subject/>
  <dc:title>Slide 1</dc:title>
</cp:coreProperties>
</file>